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69D79-4979-4259-9FC9-C9290252E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59360-2F54-4815-A539-3B23F030C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BFAC9-E5C1-4C01-9E24-4097A7FC2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9ED08-151E-487D-AEC8-E6BDB64B7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5E55D-3A35-4A5D-B392-FAA110FC4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89904-6041-4DC0-8E21-36964505D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7E8D1-CE2C-48DA-A726-93905AA5C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A9B82-82C7-4521-A6E8-D015D6B0C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61529-01D5-4D8C-AA88-67A87A30E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DC60C-1B7C-48D8-88AA-2C56DB645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24225-D3CB-4EB6-9630-00288E3E6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A25A2-D823-44D5-A410-D5139005B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316AD-17DB-462B-B0AA-36866CA16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BC94F-3BFE-46BD-BD19-F9F2BE21A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8407B-26D8-4965-8BD9-3C02D22CC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78936-2CC6-49CE-942B-5AED41A6F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C8913-9F17-4A23-9A4F-0D8E050EB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87E16-839C-4B2F-949F-222B2FC7F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6E18A-B0D2-4FCE-8DCA-6FAE109D8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D998C-0433-406C-91A0-8301227D2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3D35A-52A8-428A-BCD1-9879EB2E3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DA99D-62BD-4A45-BCED-E58ADAA00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23DBC-749B-4D39-9C7E-6480C482A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9278F-AEE4-4662-87FC-29AEA3446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86D85-10EB-4ED2-B224-F0B4AF72548D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F7D3D-36CB-42BE-8A51-4A67280F41FD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620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The Bible Story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view, Review, Review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ahoma"/>
              </a:rPr>
              <a:t>4.  The Patriarch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bram given promises from God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Descendants will become great n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ill be blessed materially and spirituall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ame will be exalt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ill be a blessing to oth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Through his seed all nations will be bless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Descendants will receive the land of Canaa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ahoma"/>
              </a:rPr>
              <a:t>4.  The Patriarch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st of the Bible is the story of fulfilling these promise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.  The great nation promis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.  The spiritual blessing promis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3.  The land promis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ahoma"/>
              </a:rPr>
              <a:t>4.  The Patriarch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066320" y="182880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bram travels to Canaan with wife Sarai and nephew Lo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about 2000 years before Christ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oes to Egypt due to famin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turns to Canaa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bram and Lot separat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bram rescues Lo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bram called a “Hebrew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bram blessed by Melchizede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066680" y="1981080"/>
            <a:ext cx="3695760" cy="411480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4914720" y="1981080"/>
            <a:ext cx="3695400" cy="198144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4914720" y="4114440"/>
            <a:ext cx="3695400" cy="1981080"/>
          </a:xfrm>
          <a:prstGeom prst="rect">
            <a:avLst/>
          </a:prstGeom>
          <a:ln w="0">
            <a:noFill/>
          </a:ln>
        </p:spPr>
      </p:pic>
      <p:grpSp>
        <p:nvGrpSpPr>
          <p:cNvPr id="148" name=""/>
          <p:cNvGrpSpPr/>
          <p:nvPr/>
        </p:nvGrpSpPr>
        <p:grpSpPr>
          <a:xfrm>
            <a:off x="380880" y="165240"/>
            <a:ext cx="8586720" cy="6693480"/>
            <a:chOff x="380880" y="165240"/>
            <a:chExt cx="8586720" cy="6693480"/>
          </a:xfrm>
        </p:grpSpPr>
        <p:grpSp>
          <p:nvGrpSpPr>
            <p:cNvPr id="149" name=""/>
            <p:cNvGrpSpPr/>
            <p:nvPr/>
          </p:nvGrpSpPr>
          <p:grpSpPr>
            <a:xfrm>
              <a:off x="380880" y="165240"/>
              <a:ext cx="8586720" cy="6693480"/>
              <a:chOff x="380880" y="165240"/>
              <a:chExt cx="8586720" cy="6693480"/>
            </a:xfrm>
          </p:grpSpPr>
          <p:sp>
            <p:nvSpPr>
              <p:cNvPr id="150" name=""/>
              <p:cNvSpPr/>
              <p:nvPr/>
            </p:nvSpPr>
            <p:spPr>
              <a:xfrm flipH="1" flipV="1">
                <a:off x="5559120" y="2731680"/>
                <a:ext cx="190080" cy="104760"/>
              </a:xfrm>
              <a:prstGeom prst="line">
                <a:avLst/>
              </a:prstGeom>
              <a:ln w="12600">
                <a:solidFill>
                  <a:srgbClr val="ff50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 flipH="1">
                <a:off x="5605200" y="2913120"/>
                <a:ext cx="204480" cy="95400"/>
              </a:xfrm>
              <a:prstGeom prst="line">
                <a:avLst/>
              </a:prstGeom>
              <a:ln w="12600">
                <a:solidFill>
                  <a:srgbClr val="ff50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flipH="1" flipV="1">
                <a:off x="4817160" y="2611080"/>
                <a:ext cx="309240" cy="117720"/>
              </a:xfrm>
              <a:prstGeom prst="line">
                <a:avLst/>
              </a:prstGeom>
              <a:ln w="12600">
                <a:solidFill>
                  <a:srgbClr val="ff50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 flipV="1">
                <a:off x="4920840" y="2469960"/>
                <a:ext cx="193320" cy="120600"/>
              </a:xfrm>
              <a:prstGeom prst="line">
                <a:avLst/>
              </a:prstGeom>
              <a:ln w="12600">
                <a:solidFill>
                  <a:srgbClr val="ff50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15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80880" y="236520"/>
                <a:ext cx="8586720" cy="6613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5" name=""/>
              <p:cNvSpPr/>
              <p:nvPr/>
            </p:nvSpPr>
            <p:spPr>
              <a:xfrm>
                <a:off x="572400" y="3872160"/>
                <a:ext cx="1933920" cy="91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400" spc="-1" strike="noStrike">
                    <a:solidFill>
                      <a:srgbClr val="ffffff"/>
                    </a:solidFill>
                    <a:latin typeface="Times New Roman"/>
                  </a:rPr>
                  <a:t>Egypt</a:t>
                </a:r>
                <a:endParaRPr b="0" lang="en-US" sz="5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 rot="19680000">
                <a:off x="505080" y="3204720"/>
                <a:ext cx="882360" cy="57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Nile</a:t>
                </a: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1189440" y="2281320"/>
                <a:ext cx="1912680" cy="57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Times New Roman"/>
                  </a:rPr>
                  <a:t>Nile Delta</a:t>
                </a: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1521720" y="1357560"/>
                <a:ext cx="4692600" cy="69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ffffff"/>
                    </a:solidFill>
                    <a:latin typeface="Arial"/>
                  </a:rPr>
                  <a:t>Mediterranean Sea</a:t>
                </a: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7071840" y="6404040"/>
                <a:ext cx="179676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NASA Photo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3857040" y="4356000"/>
                <a:ext cx="1172160" cy="63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Times New Roman"/>
                  </a:rPr>
                  <a:t>Sinai</a:t>
                </a: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2408040" y="817560"/>
                <a:ext cx="6514560" cy="2216160"/>
              </a:xfrm>
              <a:custGeom>
                <a:avLst/>
                <a:gdLst/>
                <a:ahLst/>
                <a:rect l="l" t="t" r="r" b="b"/>
                <a:pathLst>
                  <a:path w="4104" h="1396">
                    <a:moveTo>
                      <a:pt x="4103" y="135"/>
                    </a:moveTo>
                    <a:lnTo>
                      <a:pt x="4075" y="116"/>
                    </a:lnTo>
                    <a:lnTo>
                      <a:pt x="4056" y="87"/>
                    </a:lnTo>
                    <a:lnTo>
                      <a:pt x="4028" y="68"/>
                    </a:lnTo>
                    <a:lnTo>
                      <a:pt x="3991" y="58"/>
                    </a:lnTo>
                    <a:lnTo>
                      <a:pt x="3963" y="28"/>
                    </a:lnTo>
                    <a:lnTo>
                      <a:pt x="3935" y="19"/>
                    </a:lnTo>
                    <a:lnTo>
                      <a:pt x="3898" y="0"/>
                    </a:lnTo>
                    <a:lnTo>
                      <a:pt x="3870" y="0"/>
                    </a:lnTo>
                    <a:lnTo>
                      <a:pt x="3842" y="19"/>
                    </a:lnTo>
                    <a:lnTo>
                      <a:pt x="3815" y="48"/>
                    </a:lnTo>
                    <a:lnTo>
                      <a:pt x="3786" y="77"/>
                    </a:lnTo>
                    <a:lnTo>
                      <a:pt x="3768" y="106"/>
                    </a:lnTo>
                    <a:lnTo>
                      <a:pt x="3740" y="125"/>
                    </a:lnTo>
                    <a:lnTo>
                      <a:pt x="3721" y="154"/>
                    </a:lnTo>
                    <a:lnTo>
                      <a:pt x="3693" y="174"/>
                    </a:lnTo>
                    <a:lnTo>
                      <a:pt x="3665" y="203"/>
                    </a:lnTo>
                    <a:lnTo>
                      <a:pt x="3637" y="213"/>
                    </a:lnTo>
                    <a:lnTo>
                      <a:pt x="3609" y="242"/>
                    </a:lnTo>
                    <a:lnTo>
                      <a:pt x="3572" y="271"/>
                    </a:lnTo>
                    <a:lnTo>
                      <a:pt x="3544" y="291"/>
                    </a:lnTo>
                    <a:lnTo>
                      <a:pt x="3515" y="310"/>
                    </a:lnTo>
                    <a:lnTo>
                      <a:pt x="3488" y="339"/>
                    </a:lnTo>
                    <a:lnTo>
                      <a:pt x="3460" y="358"/>
                    </a:lnTo>
                    <a:lnTo>
                      <a:pt x="3432" y="378"/>
                    </a:lnTo>
                    <a:lnTo>
                      <a:pt x="3404" y="407"/>
                    </a:lnTo>
                    <a:lnTo>
                      <a:pt x="3375" y="426"/>
                    </a:lnTo>
                    <a:lnTo>
                      <a:pt x="3339" y="455"/>
                    </a:lnTo>
                    <a:lnTo>
                      <a:pt x="3310" y="474"/>
                    </a:lnTo>
                    <a:lnTo>
                      <a:pt x="3282" y="494"/>
                    </a:lnTo>
                    <a:lnTo>
                      <a:pt x="3245" y="513"/>
                    </a:lnTo>
                    <a:lnTo>
                      <a:pt x="3162" y="533"/>
                    </a:lnTo>
                    <a:lnTo>
                      <a:pt x="3096" y="542"/>
                    </a:lnTo>
                    <a:lnTo>
                      <a:pt x="3069" y="571"/>
                    </a:lnTo>
                    <a:lnTo>
                      <a:pt x="2984" y="591"/>
                    </a:lnTo>
                    <a:lnTo>
                      <a:pt x="2956" y="610"/>
                    </a:lnTo>
                    <a:lnTo>
                      <a:pt x="2919" y="639"/>
                    </a:lnTo>
                    <a:lnTo>
                      <a:pt x="2891" y="658"/>
                    </a:lnTo>
                    <a:lnTo>
                      <a:pt x="2872" y="687"/>
                    </a:lnTo>
                    <a:lnTo>
                      <a:pt x="2844" y="707"/>
                    </a:lnTo>
                    <a:lnTo>
                      <a:pt x="2826" y="736"/>
                    </a:lnTo>
                    <a:lnTo>
                      <a:pt x="2798" y="746"/>
                    </a:lnTo>
                    <a:lnTo>
                      <a:pt x="2732" y="765"/>
                    </a:lnTo>
                    <a:lnTo>
                      <a:pt x="2658" y="784"/>
                    </a:lnTo>
                    <a:lnTo>
                      <a:pt x="2593" y="803"/>
                    </a:lnTo>
                    <a:lnTo>
                      <a:pt x="2518" y="824"/>
                    </a:lnTo>
                    <a:lnTo>
                      <a:pt x="2453" y="843"/>
                    </a:lnTo>
                    <a:lnTo>
                      <a:pt x="2425" y="862"/>
                    </a:lnTo>
                    <a:lnTo>
                      <a:pt x="2396" y="949"/>
                    </a:lnTo>
                    <a:lnTo>
                      <a:pt x="2378" y="1017"/>
                    </a:lnTo>
                    <a:lnTo>
                      <a:pt x="2359" y="1094"/>
                    </a:lnTo>
                    <a:lnTo>
                      <a:pt x="2341" y="1123"/>
                    </a:lnTo>
                    <a:lnTo>
                      <a:pt x="2313" y="1143"/>
                    </a:lnTo>
                    <a:lnTo>
                      <a:pt x="2229" y="1153"/>
                    </a:lnTo>
                    <a:lnTo>
                      <a:pt x="2145" y="1153"/>
                    </a:lnTo>
                    <a:lnTo>
                      <a:pt x="2117" y="1163"/>
                    </a:lnTo>
                    <a:lnTo>
                      <a:pt x="2052" y="1163"/>
                    </a:lnTo>
                    <a:lnTo>
                      <a:pt x="2023" y="1172"/>
                    </a:lnTo>
                    <a:lnTo>
                      <a:pt x="1986" y="1191"/>
                    </a:lnTo>
                    <a:lnTo>
                      <a:pt x="1903" y="1201"/>
                    </a:lnTo>
                    <a:lnTo>
                      <a:pt x="1818" y="1220"/>
                    </a:lnTo>
                    <a:lnTo>
                      <a:pt x="1790" y="1230"/>
                    </a:lnTo>
                    <a:lnTo>
                      <a:pt x="1753" y="1230"/>
                    </a:lnTo>
                    <a:lnTo>
                      <a:pt x="1725" y="1230"/>
                    </a:lnTo>
                    <a:lnTo>
                      <a:pt x="1642" y="1230"/>
                    </a:lnTo>
                    <a:lnTo>
                      <a:pt x="1557" y="1230"/>
                    </a:lnTo>
                    <a:lnTo>
                      <a:pt x="1474" y="1230"/>
                    </a:lnTo>
                    <a:lnTo>
                      <a:pt x="1445" y="1240"/>
                    </a:lnTo>
                    <a:lnTo>
                      <a:pt x="1371" y="1240"/>
                    </a:lnTo>
                    <a:lnTo>
                      <a:pt x="1287" y="1250"/>
                    </a:lnTo>
                    <a:lnTo>
                      <a:pt x="1212" y="1250"/>
                    </a:lnTo>
                    <a:lnTo>
                      <a:pt x="1147" y="1250"/>
                    </a:lnTo>
                    <a:lnTo>
                      <a:pt x="1072" y="1260"/>
                    </a:lnTo>
                    <a:lnTo>
                      <a:pt x="961" y="1260"/>
                    </a:lnTo>
                    <a:lnTo>
                      <a:pt x="886" y="1269"/>
                    </a:lnTo>
                    <a:lnTo>
                      <a:pt x="811" y="1269"/>
                    </a:lnTo>
                    <a:lnTo>
                      <a:pt x="737" y="1279"/>
                    </a:lnTo>
                    <a:lnTo>
                      <a:pt x="709" y="1279"/>
                    </a:lnTo>
                    <a:lnTo>
                      <a:pt x="634" y="1279"/>
                    </a:lnTo>
                    <a:lnTo>
                      <a:pt x="551" y="1288"/>
                    </a:lnTo>
                    <a:lnTo>
                      <a:pt x="523" y="1288"/>
                    </a:lnTo>
                    <a:lnTo>
                      <a:pt x="448" y="1298"/>
                    </a:lnTo>
                    <a:lnTo>
                      <a:pt x="364" y="1308"/>
                    </a:lnTo>
                    <a:lnTo>
                      <a:pt x="336" y="1308"/>
                    </a:lnTo>
                    <a:lnTo>
                      <a:pt x="261" y="1308"/>
                    </a:lnTo>
                    <a:lnTo>
                      <a:pt x="233" y="1317"/>
                    </a:lnTo>
                    <a:lnTo>
                      <a:pt x="168" y="1317"/>
                    </a:lnTo>
                    <a:lnTo>
                      <a:pt x="140" y="1317"/>
                    </a:lnTo>
                    <a:lnTo>
                      <a:pt x="65" y="1317"/>
                    </a:lnTo>
                    <a:lnTo>
                      <a:pt x="28" y="1317"/>
                    </a:lnTo>
                    <a:lnTo>
                      <a:pt x="0" y="1317"/>
                    </a:lnTo>
                    <a:lnTo>
                      <a:pt x="28" y="1336"/>
                    </a:lnTo>
                    <a:lnTo>
                      <a:pt x="56" y="1347"/>
                    </a:lnTo>
                    <a:lnTo>
                      <a:pt x="85" y="1357"/>
                    </a:lnTo>
                    <a:lnTo>
                      <a:pt x="121" y="1376"/>
                    </a:lnTo>
                    <a:lnTo>
                      <a:pt x="150" y="1376"/>
                    </a:lnTo>
                    <a:lnTo>
                      <a:pt x="178" y="1376"/>
                    </a:lnTo>
                    <a:lnTo>
                      <a:pt x="215" y="1376"/>
                    </a:lnTo>
                    <a:lnTo>
                      <a:pt x="243" y="1376"/>
                    </a:lnTo>
                    <a:lnTo>
                      <a:pt x="271" y="1376"/>
                    </a:lnTo>
                    <a:lnTo>
                      <a:pt x="308" y="1376"/>
                    </a:lnTo>
                    <a:lnTo>
                      <a:pt x="391" y="1376"/>
                    </a:lnTo>
                    <a:lnTo>
                      <a:pt x="420" y="1385"/>
                    </a:lnTo>
                    <a:lnTo>
                      <a:pt x="504" y="1385"/>
                    </a:lnTo>
                    <a:lnTo>
                      <a:pt x="588" y="1385"/>
                    </a:lnTo>
                    <a:lnTo>
                      <a:pt x="616" y="1385"/>
                    </a:lnTo>
                    <a:lnTo>
                      <a:pt x="644" y="1385"/>
                    </a:lnTo>
                    <a:lnTo>
                      <a:pt x="681" y="1385"/>
                    </a:lnTo>
                    <a:lnTo>
                      <a:pt x="746" y="1385"/>
                    </a:lnTo>
                    <a:lnTo>
                      <a:pt x="774" y="1385"/>
                    </a:lnTo>
                    <a:lnTo>
                      <a:pt x="839" y="1385"/>
                    </a:lnTo>
                    <a:lnTo>
                      <a:pt x="904" y="1385"/>
                    </a:lnTo>
                    <a:lnTo>
                      <a:pt x="933" y="1385"/>
                    </a:lnTo>
                    <a:lnTo>
                      <a:pt x="961" y="1385"/>
                    </a:lnTo>
                    <a:lnTo>
                      <a:pt x="1035" y="1385"/>
                    </a:lnTo>
                    <a:lnTo>
                      <a:pt x="1064" y="1385"/>
                    </a:lnTo>
                    <a:lnTo>
                      <a:pt x="1101" y="1385"/>
                    </a:lnTo>
                    <a:lnTo>
                      <a:pt x="1184" y="1395"/>
                    </a:lnTo>
                    <a:lnTo>
                      <a:pt x="1269" y="1395"/>
                    </a:lnTo>
                    <a:lnTo>
                      <a:pt x="1352" y="1395"/>
                    </a:lnTo>
                    <a:lnTo>
                      <a:pt x="1427" y="1395"/>
                    </a:lnTo>
                    <a:lnTo>
                      <a:pt x="1492" y="1395"/>
                    </a:lnTo>
                    <a:lnTo>
                      <a:pt x="1520" y="1395"/>
                    </a:lnTo>
                    <a:lnTo>
                      <a:pt x="1585" y="1395"/>
                    </a:lnTo>
                    <a:lnTo>
                      <a:pt x="1660" y="1395"/>
                    </a:lnTo>
                    <a:lnTo>
                      <a:pt x="1725" y="1395"/>
                    </a:lnTo>
                    <a:lnTo>
                      <a:pt x="1790" y="1395"/>
                    </a:lnTo>
                    <a:lnTo>
                      <a:pt x="1818" y="1395"/>
                    </a:lnTo>
                    <a:lnTo>
                      <a:pt x="1883" y="1395"/>
                    </a:lnTo>
                    <a:lnTo>
                      <a:pt x="1950" y="1395"/>
                    </a:lnTo>
                    <a:lnTo>
                      <a:pt x="2015" y="1395"/>
                    </a:lnTo>
                    <a:lnTo>
                      <a:pt x="2089" y="1395"/>
                    </a:lnTo>
                    <a:lnTo>
                      <a:pt x="2163" y="1395"/>
                    </a:lnTo>
                    <a:lnTo>
                      <a:pt x="2229" y="1395"/>
                    </a:lnTo>
                    <a:lnTo>
                      <a:pt x="2303" y="1395"/>
                    </a:lnTo>
                    <a:lnTo>
                      <a:pt x="2378" y="1395"/>
                    </a:lnTo>
                    <a:lnTo>
                      <a:pt x="2462" y="1385"/>
                    </a:lnTo>
                    <a:lnTo>
                      <a:pt x="2499" y="1376"/>
                    </a:lnTo>
                    <a:lnTo>
                      <a:pt x="2527" y="1347"/>
                    </a:lnTo>
                    <a:lnTo>
                      <a:pt x="2556" y="1327"/>
                    </a:lnTo>
                    <a:lnTo>
                      <a:pt x="2593" y="1298"/>
                    </a:lnTo>
                    <a:lnTo>
                      <a:pt x="2621" y="1288"/>
                    </a:lnTo>
                    <a:lnTo>
                      <a:pt x="2649" y="1260"/>
                    </a:lnTo>
                    <a:lnTo>
                      <a:pt x="2676" y="1230"/>
                    </a:lnTo>
                    <a:lnTo>
                      <a:pt x="2704" y="1201"/>
                    </a:lnTo>
                    <a:lnTo>
                      <a:pt x="2714" y="1134"/>
                    </a:lnTo>
                    <a:lnTo>
                      <a:pt x="2732" y="1104"/>
                    </a:lnTo>
                    <a:lnTo>
                      <a:pt x="2751" y="1075"/>
                    </a:lnTo>
                    <a:lnTo>
                      <a:pt x="2761" y="1007"/>
                    </a:lnTo>
                    <a:lnTo>
                      <a:pt x="2789" y="988"/>
                    </a:lnTo>
                    <a:lnTo>
                      <a:pt x="2798" y="959"/>
                    </a:lnTo>
                    <a:lnTo>
                      <a:pt x="2826" y="930"/>
                    </a:lnTo>
                    <a:lnTo>
                      <a:pt x="2854" y="900"/>
                    </a:lnTo>
                    <a:lnTo>
                      <a:pt x="2882" y="862"/>
                    </a:lnTo>
                    <a:lnTo>
                      <a:pt x="2909" y="833"/>
                    </a:lnTo>
                    <a:lnTo>
                      <a:pt x="2929" y="803"/>
                    </a:lnTo>
                  </a:path>
                </a:pathLst>
              </a:custGeom>
              <a:noFill/>
              <a:ln cap="rnd" w="50760">
                <a:solidFill>
                  <a:srgbClr val="ff50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6919920" y="927000"/>
                <a:ext cx="1707120" cy="63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afd00"/>
                    </a:solidFill>
                    <a:latin typeface="Times New Roman"/>
                  </a:rPr>
                  <a:t>Canaan</a:t>
                </a: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601920" y="6524640"/>
                <a:ext cx="1798560" cy="27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©  EBibleTeacher.com  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509040" y="165240"/>
                <a:ext cx="7492680" cy="10954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400" spc="-1" strike="noStrike" u="sng">
                    <a:solidFill>
                      <a:srgbClr val="fafd00"/>
                    </a:solidFill>
                    <a:uFillTx/>
                    <a:latin typeface="Times New Roman"/>
                  </a:rPr>
                  <a:t>Abraham’s Journey to Egypt</a:t>
                </a:r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65" name=""/>
            <p:cNvSpPr/>
            <p:nvPr/>
          </p:nvSpPr>
          <p:spPr>
            <a:xfrm rot="16091400">
              <a:off x="4898880" y="2639880"/>
              <a:ext cx="155520" cy="231840"/>
            </a:xfrm>
            <a:prstGeom prst="triangle">
              <a:avLst>
                <a:gd name="adj" fmla="val 50000"/>
              </a:avLst>
            </a:prstGeom>
            <a:solidFill>
              <a:srgbClr val="ff5008"/>
            </a:solidFill>
            <a:ln w="12600">
              <a:solidFill>
                <a:srgbClr val="ff50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600" bIns="30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 rot="5508600">
              <a:off x="5379480" y="2892240"/>
              <a:ext cx="155520" cy="231840"/>
            </a:xfrm>
            <a:prstGeom prst="triangle">
              <a:avLst>
                <a:gd name="adj" fmla="val 50000"/>
              </a:avLst>
            </a:prstGeom>
            <a:solidFill>
              <a:srgbClr val="ff5008"/>
            </a:solidFill>
            <a:ln w="12600">
              <a:solidFill>
                <a:srgbClr val="ff50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600" bIns="30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 rot="15092400">
              <a:off x="7418160" y="1530360"/>
              <a:ext cx="155520" cy="231840"/>
            </a:xfrm>
            <a:prstGeom prst="triangle">
              <a:avLst>
                <a:gd name="adj" fmla="val 50000"/>
              </a:avLst>
            </a:prstGeom>
            <a:solidFill>
              <a:srgbClr val="ff5008"/>
            </a:solidFill>
            <a:ln w="12600">
              <a:solidFill>
                <a:srgbClr val="ff50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600" bIns="30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ahoma"/>
              </a:rPr>
              <a:t>4.  The Patriarch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320" y="1905120"/>
            <a:ext cx="8077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shmael born to Abram and Haga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venant of circumcis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bram called “Abraham”; Sarai called “Sarah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struction of Sodom and Gomorra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ities destroyed by fir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ot and his family escap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ot’s wife turned to pillar of sal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ot has sons by his daught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oab (Moabites) and Benammi (Ammonites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ahoma"/>
              </a:rPr>
              <a:t>4.  The Patriarch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-597240"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saac born to Abraham and Sara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7240" indent="-597240"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shmael and Hagar sent awa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7240" indent="-597240"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braham offers Isaac as sacrifi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7240" indent="-597240"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arah d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7240" indent="-597240"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braham gets Rebekah for Isaac’s wif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7240" indent="-597240"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braham marries Keturah; she bore him six s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7240" indent="-597240"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braham died at age of 175 yea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ahoma"/>
              </a:rPr>
              <a:t>4.  The Patriarch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saac and Rebekah’s  two son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sau and Jacob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sau sold his birthright to Jacob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acob receives Isaac’s blessing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acob works 14 years for Rach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e marries Leah first; then Rach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ahoma"/>
              </a:rPr>
              <a:t>4.  The Patriarch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914400" y="1904760"/>
            <a:ext cx="46483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scendants of Jacob -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219320" y="2505240"/>
            <a:ext cx="205740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By Leah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ub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ime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ev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Juda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ssach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Zebulu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ina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809880" y="2514600"/>
            <a:ext cx="2286000" cy="16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By Bilhah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aphtal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809880" y="4495680"/>
            <a:ext cx="2210040" cy="16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By Zilpah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sh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248520" y="2514600"/>
            <a:ext cx="2666880" cy="16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By Rachel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Josep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enjam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ahoma"/>
              </a:rPr>
              <a:t>4.  The Patriarch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oseph sold into slavery by broth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etrayed by Potiphar’s wife and jail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oseph becomes a ruler in Egyp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amine causes his brothers to come to Egyp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acob and Joseph re-united in Egyp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oseph has two son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nasseh and Ephrai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ahoma"/>
              </a:rPr>
              <a:t>5.  The Exodu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call of Mos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3360" indent="-603360"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en plagues upon Egyp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3360" indent="-603360"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sraelites cross the Red Se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3360" indent="-603360"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raveled south to Mt. Sina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3360" indent="-603360"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en Commandments giv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3360" indent="-603360"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bernacle built and furnish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3360" indent="-603360"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iests to mediate between God and Israel, and offer sacrific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ahoma"/>
              </a:rPr>
              <a:t>1. Before the flood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re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rst sin in “the gard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rst promise of a Savior (Gen. 3:15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in killed his brother Ab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enerations of Ada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ahoma"/>
              </a:rPr>
              <a:t>5.  The Exodu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80773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-59724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bservance of the Passover Feas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7240" indent="-59724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pecial times, feasts and laws established by Go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7240" indent="-59724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srael becomes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a distinct nation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with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God as their k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72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7240" indent="-59724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“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GREAT NATION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” promise fulfill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72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7240" indent="-59724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srael traveled north to Kades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ahoma"/>
              </a:rPr>
              <a:t>6.  Wilderness Wandering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914400" y="18288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-578880"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welve spies sent into land of Canaa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78880" indent="-578880"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oshua and Caleb tell the trut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78880" indent="-578880"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srael punished by 40 years of wandering in the wilderne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78880" indent="-578880"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last year of wandering, they traveled east around the Dead Sea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78880" indent="-578880"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feat Sihon (Amorites) and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g (Basha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78880" indent="-578880"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oses dies and Joshua becomes lead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"/>
          <p:cNvGrpSpPr/>
          <p:nvPr/>
        </p:nvGrpSpPr>
        <p:grpSpPr>
          <a:xfrm>
            <a:off x="228600" y="100080"/>
            <a:ext cx="8715240" cy="6757920"/>
            <a:chOff x="228600" y="100080"/>
            <a:chExt cx="8715240" cy="6757920"/>
          </a:xfrm>
        </p:grpSpPr>
        <p:grpSp>
          <p:nvGrpSpPr>
            <p:cNvPr id="189" name=""/>
            <p:cNvGrpSpPr/>
            <p:nvPr/>
          </p:nvGrpSpPr>
          <p:grpSpPr>
            <a:xfrm>
              <a:off x="228600" y="100080"/>
              <a:ext cx="8715240" cy="6757920"/>
              <a:chOff x="228600" y="100080"/>
              <a:chExt cx="8715240" cy="6757920"/>
            </a:xfrm>
          </p:grpSpPr>
          <p:pic>
            <p:nvPicPr>
              <p:cNvPr id="190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228600" y="100080"/>
                <a:ext cx="8715240" cy="675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1" name=""/>
              <p:cNvSpPr/>
              <p:nvPr/>
            </p:nvSpPr>
            <p:spPr>
              <a:xfrm>
                <a:off x="429480" y="4552920"/>
                <a:ext cx="1479960" cy="69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000000"/>
                    </a:solidFill>
                    <a:latin typeface="Times New Roman"/>
                  </a:rPr>
                  <a:t>Egypt</a:t>
                </a: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1346400" y="1986120"/>
                <a:ext cx="1256040" cy="771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Times New Roman"/>
                  </a:rPr>
                  <a:t>Nile</a:t>
                </a: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Times New Roman"/>
                  </a:rPr>
                  <a:t>   </a:t>
                </a:r>
                <a:r>
                  <a:rPr b="1" lang="en-US" sz="2800" spc="-1" strike="noStrike">
                    <a:solidFill>
                      <a:srgbClr val="ffffff"/>
                    </a:solidFill>
                    <a:latin typeface="Times New Roman"/>
                  </a:rPr>
                  <a:t>Delta</a:t>
                </a: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3632040" y="480960"/>
                <a:ext cx="2708280" cy="112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ffffff"/>
                    </a:solidFill>
                    <a:latin typeface="Times New Roman"/>
                  </a:rPr>
                  <a:t>Great Sea</a:t>
                </a: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Times New Roman"/>
                  </a:rPr>
                  <a:t>(Mediterranean)</a:t>
                </a: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3194280" y="6153120"/>
                <a:ext cx="1414440" cy="51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cfeb9"/>
                    </a:solidFill>
                    <a:latin typeface="Times New Roman"/>
                  </a:rPr>
                  <a:t>Red Sea</a:t>
                </a: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3876480" y="2871720"/>
                <a:ext cx="1875960" cy="96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Sinai</a:t>
                </a: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Peninsula</a:t>
                </a: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7036560" y="1382760"/>
                <a:ext cx="1539360" cy="57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Times New Roman"/>
                  </a:rPr>
                  <a:t>Canaan</a:t>
                </a: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555840" y="341280"/>
                <a:ext cx="2095560" cy="136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 u="sng">
                    <a:solidFill>
                      <a:srgbClr val="fafd00"/>
                    </a:solidFill>
                    <a:uFillTx/>
                    <a:latin typeface="Arial"/>
                  </a:rPr>
                  <a:t>Traditional</a:t>
                </a: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 u="sng">
                    <a:solidFill>
                      <a:srgbClr val="fafd00"/>
                    </a:solidFill>
                    <a:uFillTx/>
                    <a:latin typeface="Arial"/>
                  </a:rPr>
                  <a:t>Route of </a:t>
                </a: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 u="sng">
                    <a:solidFill>
                      <a:srgbClr val="fafd00"/>
                    </a:solidFill>
                    <a:uFillTx/>
                    <a:latin typeface="Arial"/>
                  </a:rPr>
                  <a:t>the Exodus</a:t>
                </a: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228600" y="6199200"/>
                <a:ext cx="2097000" cy="51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NASA Photo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©  EBibleTeacher.com  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2172960" y="3486240"/>
                <a:ext cx="1320480" cy="506520"/>
              </a:xfrm>
              <a:prstGeom prst="rightArrow">
                <a:avLst>
                  <a:gd name="adj1" fmla="val 50000"/>
                  <a:gd name="adj2" fmla="val 130360"/>
                </a:avLst>
              </a:prstGeom>
              <a:solidFill>
                <a:srgbClr val="fafd00"/>
              </a:solidFill>
              <a:ln w="12600">
                <a:solidFill>
                  <a:srgbClr val="fcfe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60520" y="3898800"/>
                <a:ext cx="2897280" cy="63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 u="sng">
                    <a:solidFill>
                      <a:srgbClr val="fafd00"/>
                    </a:solidFill>
                    <a:uFillTx/>
                    <a:latin typeface="Arial"/>
                  </a:rPr>
                  <a:t>Quail/Manna</a:t>
                </a: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 flipH="1">
                <a:off x="5296680" y="5315040"/>
                <a:ext cx="1320120" cy="506520"/>
              </a:xfrm>
              <a:prstGeom prst="rightArrow">
                <a:avLst>
                  <a:gd name="adj1" fmla="val 50000"/>
                  <a:gd name="adj2" fmla="val 130325"/>
                </a:avLst>
              </a:prstGeom>
              <a:solidFill>
                <a:srgbClr val="fafd00"/>
              </a:solidFill>
              <a:ln w="12600">
                <a:solidFill>
                  <a:srgbClr val="fcfe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351480" y="4540320"/>
                <a:ext cx="2269440" cy="69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 u="sng">
                    <a:solidFill>
                      <a:srgbClr val="fafd00"/>
                    </a:solidFill>
                    <a:uFillTx/>
                    <a:latin typeface="Arial"/>
                  </a:rPr>
                  <a:t>Mt. Sinai</a:t>
                </a: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6211800" y="2114640"/>
                <a:ext cx="1320120" cy="506520"/>
              </a:xfrm>
              <a:prstGeom prst="rightArrow">
                <a:avLst>
                  <a:gd name="adj1" fmla="val 50000"/>
                  <a:gd name="adj2" fmla="val 130325"/>
                </a:avLst>
              </a:prstGeom>
              <a:solidFill>
                <a:srgbClr val="fafd00"/>
              </a:solidFill>
              <a:ln w="12600">
                <a:solidFill>
                  <a:srgbClr val="fcfe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3989520" y="1949400"/>
                <a:ext cx="2240280" cy="69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 u="sng">
                    <a:solidFill>
                      <a:srgbClr val="fafd00"/>
                    </a:solidFill>
                    <a:uFillTx/>
                    <a:latin typeface="Arial"/>
                  </a:rPr>
                  <a:t>12 Spies</a:t>
                </a: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8429400" y="1390680"/>
                <a:ext cx="291600" cy="216000"/>
              </a:xfrm>
              <a:prstGeom prst="star5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560" bIns="255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6656760" y="730440"/>
                <a:ext cx="1985760" cy="69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 u="sng">
                    <a:solidFill>
                      <a:srgbClr val="fafd00"/>
                    </a:solidFill>
                    <a:uFillTx/>
                    <a:latin typeface="Arial"/>
                  </a:rPr>
                  <a:t>Jericho</a:t>
                </a: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2631960" y="1612800"/>
                <a:ext cx="6220800" cy="4219560"/>
              </a:xfrm>
              <a:custGeom>
                <a:avLst/>
                <a:gdLst/>
                <a:ahLst/>
                <a:rect l="l" t="t" r="r" b="b"/>
                <a:pathLst>
                  <a:path w="3919" h="2658">
                    <a:moveTo>
                      <a:pt x="0" y="672"/>
                    </a:moveTo>
                    <a:lnTo>
                      <a:pt x="48" y="720"/>
                    </a:lnTo>
                    <a:lnTo>
                      <a:pt x="48" y="720"/>
                    </a:lnTo>
                    <a:lnTo>
                      <a:pt x="97" y="768"/>
                    </a:lnTo>
                    <a:lnTo>
                      <a:pt x="145" y="864"/>
                    </a:lnTo>
                    <a:lnTo>
                      <a:pt x="192" y="1008"/>
                    </a:lnTo>
                    <a:lnTo>
                      <a:pt x="289" y="1104"/>
                    </a:lnTo>
                    <a:lnTo>
                      <a:pt x="336" y="1152"/>
                    </a:lnTo>
                    <a:lnTo>
                      <a:pt x="433" y="1200"/>
                    </a:lnTo>
                    <a:lnTo>
                      <a:pt x="480" y="1200"/>
                    </a:lnTo>
                    <a:lnTo>
                      <a:pt x="480" y="1200"/>
                    </a:lnTo>
                    <a:lnTo>
                      <a:pt x="480" y="1200"/>
                    </a:lnTo>
                    <a:lnTo>
                      <a:pt x="480" y="1200"/>
                    </a:lnTo>
                    <a:lnTo>
                      <a:pt x="480" y="1200"/>
                    </a:lnTo>
                    <a:lnTo>
                      <a:pt x="529" y="1200"/>
                    </a:lnTo>
                    <a:lnTo>
                      <a:pt x="577" y="1200"/>
                    </a:lnTo>
                    <a:lnTo>
                      <a:pt x="577" y="1200"/>
                    </a:lnTo>
                    <a:lnTo>
                      <a:pt x="626" y="1244"/>
                    </a:lnTo>
                    <a:lnTo>
                      <a:pt x="626" y="1285"/>
                    </a:lnTo>
                    <a:lnTo>
                      <a:pt x="626" y="1329"/>
                    </a:lnTo>
                    <a:lnTo>
                      <a:pt x="637" y="1370"/>
                    </a:lnTo>
                    <a:lnTo>
                      <a:pt x="681" y="1409"/>
                    </a:lnTo>
                    <a:lnTo>
                      <a:pt x="696" y="1453"/>
                    </a:lnTo>
                    <a:lnTo>
                      <a:pt x="696" y="1494"/>
                    </a:lnTo>
                    <a:lnTo>
                      <a:pt x="707" y="1538"/>
                    </a:lnTo>
                    <a:lnTo>
                      <a:pt x="707" y="1579"/>
                    </a:lnTo>
                    <a:lnTo>
                      <a:pt x="707" y="1620"/>
                    </a:lnTo>
                    <a:lnTo>
                      <a:pt x="707" y="1663"/>
                    </a:lnTo>
                    <a:lnTo>
                      <a:pt x="696" y="1704"/>
                    </a:lnTo>
                    <a:lnTo>
                      <a:pt x="681" y="1748"/>
                    </a:lnTo>
                    <a:lnTo>
                      <a:pt x="681" y="1789"/>
                    </a:lnTo>
                    <a:lnTo>
                      <a:pt x="681" y="1830"/>
                    </a:lnTo>
                    <a:lnTo>
                      <a:pt x="681" y="1874"/>
                    </a:lnTo>
                    <a:lnTo>
                      <a:pt x="681" y="1928"/>
                    </a:lnTo>
                    <a:lnTo>
                      <a:pt x="681" y="1969"/>
                    </a:lnTo>
                    <a:lnTo>
                      <a:pt x="681" y="2013"/>
                    </a:lnTo>
                    <a:lnTo>
                      <a:pt x="696" y="2054"/>
                    </a:lnTo>
                    <a:lnTo>
                      <a:pt x="723" y="2097"/>
                    </a:lnTo>
                    <a:lnTo>
                      <a:pt x="752" y="2138"/>
                    </a:lnTo>
                    <a:lnTo>
                      <a:pt x="778" y="2179"/>
                    </a:lnTo>
                    <a:lnTo>
                      <a:pt x="822" y="2223"/>
                    </a:lnTo>
                    <a:lnTo>
                      <a:pt x="864" y="2249"/>
                    </a:lnTo>
                    <a:lnTo>
                      <a:pt x="908" y="2293"/>
                    </a:lnTo>
                    <a:lnTo>
                      <a:pt x="950" y="2319"/>
                    </a:lnTo>
                    <a:lnTo>
                      <a:pt x="1005" y="2334"/>
                    </a:lnTo>
                    <a:lnTo>
                      <a:pt x="1034" y="2378"/>
                    </a:lnTo>
                    <a:lnTo>
                      <a:pt x="1062" y="2419"/>
                    </a:lnTo>
                    <a:lnTo>
                      <a:pt x="1105" y="2458"/>
                    </a:lnTo>
                    <a:lnTo>
                      <a:pt x="1132" y="2502"/>
                    </a:lnTo>
                    <a:lnTo>
                      <a:pt x="1175" y="2528"/>
                    </a:lnTo>
                    <a:lnTo>
                      <a:pt x="1217" y="2558"/>
                    </a:lnTo>
                    <a:lnTo>
                      <a:pt x="1261" y="2598"/>
                    </a:lnTo>
                    <a:lnTo>
                      <a:pt x="1303" y="2628"/>
                    </a:lnTo>
                    <a:lnTo>
                      <a:pt x="1344" y="2657"/>
                    </a:lnTo>
                    <a:lnTo>
                      <a:pt x="1389" y="2657"/>
                    </a:lnTo>
                    <a:lnTo>
                      <a:pt x="1444" y="2657"/>
                    </a:lnTo>
                    <a:lnTo>
                      <a:pt x="1444" y="2613"/>
                    </a:lnTo>
                    <a:lnTo>
                      <a:pt x="1459" y="2572"/>
                    </a:lnTo>
                    <a:lnTo>
                      <a:pt x="1486" y="2528"/>
                    </a:lnTo>
                    <a:lnTo>
                      <a:pt x="1530" y="2473"/>
                    </a:lnTo>
                    <a:lnTo>
                      <a:pt x="1571" y="2458"/>
                    </a:lnTo>
                    <a:lnTo>
                      <a:pt x="1616" y="2419"/>
                    </a:lnTo>
                    <a:lnTo>
                      <a:pt x="1671" y="2378"/>
                    </a:lnTo>
                    <a:lnTo>
                      <a:pt x="1713" y="2363"/>
                    </a:lnTo>
                    <a:lnTo>
                      <a:pt x="1757" y="2347"/>
                    </a:lnTo>
                    <a:lnTo>
                      <a:pt x="1812" y="2319"/>
                    </a:lnTo>
                    <a:lnTo>
                      <a:pt x="1854" y="2293"/>
                    </a:lnTo>
                    <a:lnTo>
                      <a:pt x="1883" y="2249"/>
                    </a:lnTo>
                    <a:lnTo>
                      <a:pt x="1924" y="2223"/>
                    </a:lnTo>
                    <a:lnTo>
                      <a:pt x="1940" y="2179"/>
                    </a:lnTo>
                    <a:lnTo>
                      <a:pt x="1969" y="2138"/>
                    </a:lnTo>
                    <a:lnTo>
                      <a:pt x="1980" y="2097"/>
                    </a:lnTo>
                    <a:lnTo>
                      <a:pt x="2010" y="2054"/>
                    </a:lnTo>
                    <a:lnTo>
                      <a:pt x="2024" y="2013"/>
                    </a:lnTo>
                    <a:lnTo>
                      <a:pt x="2039" y="1969"/>
                    </a:lnTo>
                    <a:lnTo>
                      <a:pt x="2050" y="1859"/>
                    </a:lnTo>
                    <a:lnTo>
                      <a:pt x="2050" y="1760"/>
                    </a:lnTo>
                    <a:lnTo>
                      <a:pt x="2066" y="1649"/>
                    </a:lnTo>
                    <a:lnTo>
                      <a:pt x="2066" y="1523"/>
                    </a:lnTo>
                    <a:lnTo>
                      <a:pt x="2081" y="1479"/>
                    </a:lnTo>
                    <a:lnTo>
                      <a:pt x="2110" y="1424"/>
                    </a:lnTo>
                    <a:lnTo>
                      <a:pt x="2121" y="1383"/>
                    </a:lnTo>
                    <a:lnTo>
                      <a:pt x="2151" y="1339"/>
                    </a:lnTo>
                    <a:lnTo>
                      <a:pt x="2193" y="1298"/>
                    </a:lnTo>
                    <a:lnTo>
                      <a:pt x="2236" y="1244"/>
                    </a:lnTo>
                    <a:lnTo>
                      <a:pt x="2251" y="1200"/>
                    </a:lnTo>
                    <a:lnTo>
                      <a:pt x="2293" y="1174"/>
                    </a:lnTo>
                    <a:lnTo>
                      <a:pt x="2322" y="1130"/>
                    </a:lnTo>
                    <a:lnTo>
                      <a:pt x="2363" y="1104"/>
                    </a:lnTo>
                    <a:lnTo>
                      <a:pt x="2405" y="1104"/>
                    </a:lnTo>
                    <a:lnTo>
                      <a:pt x="2449" y="1104"/>
                    </a:lnTo>
                    <a:lnTo>
                      <a:pt x="2504" y="1089"/>
                    </a:lnTo>
                    <a:lnTo>
                      <a:pt x="2546" y="1089"/>
                    </a:lnTo>
                    <a:lnTo>
                      <a:pt x="2590" y="1075"/>
                    </a:lnTo>
                    <a:lnTo>
                      <a:pt x="2632" y="1075"/>
                    </a:lnTo>
                    <a:lnTo>
                      <a:pt x="2732" y="1075"/>
                    </a:lnTo>
                    <a:lnTo>
                      <a:pt x="2773" y="1075"/>
                    </a:lnTo>
                    <a:lnTo>
                      <a:pt x="2817" y="1075"/>
                    </a:lnTo>
                    <a:lnTo>
                      <a:pt x="2873" y="1075"/>
                    </a:lnTo>
                    <a:lnTo>
                      <a:pt x="2914" y="1075"/>
                    </a:lnTo>
                    <a:lnTo>
                      <a:pt x="2959" y="1075"/>
                    </a:lnTo>
                    <a:lnTo>
                      <a:pt x="3000" y="1060"/>
                    </a:lnTo>
                    <a:lnTo>
                      <a:pt x="3055" y="1060"/>
                    </a:lnTo>
                    <a:lnTo>
                      <a:pt x="3100" y="1049"/>
                    </a:lnTo>
                    <a:lnTo>
                      <a:pt x="3141" y="1049"/>
                    </a:lnTo>
                    <a:lnTo>
                      <a:pt x="3197" y="1049"/>
                    </a:lnTo>
                    <a:lnTo>
                      <a:pt x="3241" y="1049"/>
                    </a:lnTo>
                    <a:lnTo>
                      <a:pt x="3283" y="1034"/>
                    </a:lnTo>
                    <a:lnTo>
                      <a:pt x="3324" y="1019"/>
                    </a:lnTo>
                    <a:lnTo>
                      <a:pt x="3367" y="990"/>
                    </a:lnTo>
                    <a:lnTo>
                      <a:pt x="3409" y="964"/>
                    </a:lnTo>
                    <a:lnTo>
                      <a:pt x="3453" y="935"/>
                    </a:lnTo>
                    <a:lnTo>
                      <a:pt x="3312" y="240"/>
                    </a:lnTo>
                    <a:lnTo>
                      <a:pt x="3523" y="851"/>
                    </a:lnTo>
                    <a:lnTo>
                      <a:pt x="3550" y="809"/>
                    </a:lnTo>
                    <a:lnTo>
                      <a:pt x="3580" y="768"/>
                    </a:lnTo>
                    <a:lnTo>
                      <a:pt x="3594" y="725"/>
                    </a:lnTo>
                    <a:lnTo>
                      <a:pt x="3620" y="670"/>
                    </a:lnTo>
                    <a:lnTo>
                      <a:pt x="3636" y="629"/>
                    </a:lnTo>
                    <a:lnTo>
                      <a:pt x="3651" y="585"/>
                    </a:lnTo>
                    <a:lnTo>
                      <a:pt x="3692" y="544"/>
                    </a:lnTo>
                    <a:lnTo>
                      <a:pt x="3721" y="501"/>
                    </a:lnTo>
                    <a:lnTo>
                      <a:pt x="3763" y="474"/>
                    </a:lnTo>
                    <a:lnTo>
                      <a:pt x="3806" y="445"/>
                    </a:lnTo>
                    <a:lnTo>
                      <a:pt x="3834" y="404"/>
                    </a:lnTo>
                    <a:lnTo>
                      <a:pt x="3863" y="360"/>
                    </a:lnTo>
                    <a:lnTo>
                      <a:pt x="3889" y="305"/>
                    </a:lnTo>
                    <a:lnTo>
                      <a:pt x="3918" y="264"/>
                    </a:lnTo>
                    <a:lnTo>
                      <a:pt x="3918" y="221"/>
                    </a:lnTo>
                    <a:lnTo>
                      <a:pt x="3918" y="179"/>
                    </a:lnTo>
                    <a:lnTo>
                      <a:pt x="3904" y="125"/>
                    </a:lnTo>
                    <a:lnTo>
                      <a:pt x="3889" y="81"/>
                    </a:lnTo>
                    <a:lnTo>
                      <a:pt x="3863" y="40"/>
                    </a:lnTo>
                    <a:lnTo>
                      <a:pt x="3818" y="0"/>
                    </a:lnTo>
                  </a:path>
                </a:pathLst>
              </a:custGeom>
              <a:noFill/>
              <a:ln cap="rnd" w="50760">
                <a:solidFill>
                  <a:srgbClr val="ff50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4097160" y="5608800"/>
                <a:ext cx="1643040" cy="51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cfeb9"/>
                    </a:solidFill>
                    <a:latin typeface="Arial"/>
                  </a:rPr>
                  <a:t>Mt. Sinai</a:t>
                </a: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09" name=""/>
            <p:cNvSpPr/>
            <p:nvPr/>
          </p:nvSpPr>
          <p:spPr>
            <a:xfrm rot="9582600">
              <a:off x="2788200" y="2923920"/>
              <a:ext cx="155160" cy="231840"/>
            </a:xfrm>
            <a:prstGeom prst="triangle">
              <a:avLst>
                <a:gd name="adj" fmla="val 50000"/>
              </a:avLst>
            </a:prstGeom>
            <a:solidFill>
              <a:srgbClr val="ff5008"/>
            </a:solidFill>
            <a:ln w="12600">
              <a:solidFill>
                <a:srgbClr val="ff50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600" bIns="30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 rot="11005200">
              <a:off x="3626640" y="4485960"/>
              <a:ext cx="155160" cy="231840"/>
            </a:xfrm>
            <a:prstGeom prst="triangle">
              <a:avLst>
                <a:gd name="adj" fmla="val 50000"/>
              </a:avLst>
            </a:prstGeom>
            <a:solidFill>
              <a:srgbClr val="ff5008"/>
            </a:solidFill>
            <a:ln w="12600">
              <a:solidFill>
                <a:srgbClr val="ff50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600" bIns="30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 flipV="1" rot="11125200">
              <a:off x="5821920" y="4080960"/>
              <a:ext cx="155160" cy="231840"/>
            </a:xfrm>
            <a:prstGeom prst="triangle">
              <a:avLst>
                <a:gd name="adj" fmla="val 50000"/>
              </a:avLst>
            </a:prstGeom>
            <a:solidFill>
              <a:srgbClr val="ff5008"/>
            </a:solidFill>
            <a:ln w="12600">
              <a:solidFill>
                <a:srgbClr val="ff50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600" bIns="30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 flipV="1" rot="16133400">
              <a:off x="7045920" y="3190320"/>
              <a:ext cx="155880" cy="231480"/>
            </a:xfrm>
            <a:prstGeom prst="triangle">
              <a:avLst>
                <a:gd name="adj" fmla="val 50000"/>
              </a:avLst>
            </a:prstGeom>
            <a:solidFill>
              <a:srgbClr val="ff5008"/>
            </a:solidFill>
            <a:ln w="12600">
              <a:solidFill>
                <a:srgbClr val="ff50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 flipV="1" rot="13000200">
              <a:off x="8627400" y="2137680"/>
              <a:ext cx="155160" cy="231480"/>
            </a:xfrm>
            <a:prstGeom prst="triangle">
              <a:avLst>
                <a:gd name="adj" fmla="val 50000"/>
              </a:avLst>
            </a:prstGeom>
            <a:solidFill>
              <a:srgbClr val="ff5008"/>
            </a:solidFill>
            <a:ln w="12600">
              <a:solidFill>
                <a:srgbClr val="ff50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066320" y="259092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“</a:t>
            </a: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In the Days of the Judges”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16765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Conquest of the Land and the Period of the Judg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"/>
          <p:cNvSpPr/>
          <p:nvPr/>
        </p:nvSpPr>
        <p:spPr>
          <a:xfrm>
            <a:off x="1143000" y="60948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7.  Conquest of the Lan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90920" y="1905120"/>
            <a:ext cx="487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rom the book 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ahoma"/>
              </a:rPr>
              <a:t>Man’s Pattern or Cycle -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19814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postas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"/>
          <p:cNvSpPr/>
          <p:nvPr/>
        </p:nvSpPr>
        <p:spPr>
          <a:xfrm rot="2655600">
            <a:off x="990360" y="2895480"/>
            <a:ext cx="1066680" cy="533520"/>
          </a:xfrm>
          <a:custGeom>
            <a:avLst/>
            <a:gdLst/>
            <a:ahLst/>
            <a:rect l="l" t="t" r="r" b="b"/>
            <a:pathLst>
              <a:path w="1632" h="795">
                <a:moveTo>
                  <a:pt x="0" y="0"/>
                </a:moveTo>
                <a:lnTo>
                  <a:pt x="242" y="238"/>
                </a:lnTo>
                <a:lnTo>
                  <a:pt x="773" y="795"/>
                </a:lnTo>
                <a:lnTo>
                  <a:pt x="1632" y="1"/>
                </a:lnTo>
              </a:path>
            </a:pathLst>
          </a:custGeom>
          <a:noFill/>
          <a:ln w="38160">
            <a:solidFill>
              <a:srgbClr val="ffffff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048120"/>
            <a:ext cx="1981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ffli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429000" y="4038480"/>
            <a:ext cx="23623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pent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724280" y="5029200"/>
            <a:ext cx="24386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liver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019920" y="6095880"/>
            <a:ext cx="16761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e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rot="2655600">
            <a:off x="2209320" y="3962520"/>
            <a:ext cx="1067040" cy="533160"/>
          </a:xfrm>
          <a:custGeom>
            <a:avLst/>
            <a:gdLst/>
            <a:ahLst/>
            <a:rect l="l" t="t" r="r" b="b"/>
            <a:pathLst>
              <a:path w="1632" h="795">
                <a:moveTo>
                  <a:pt x="0" y="0"/>
                </a:moveTo>
                <a:lnTo>
                  <a:pt x="242" y="238"/>
                </a:lnTo>
                <a:lnTo>
                  <a:pt x="773" y="795"/>
                </a:lnTo>
                <a:lnTo>
                  <a:pt x="1632" y="1"/>
                </a:lnTo>
              </a:path>
            </a:pathLst>
          </a:custGeom>
          <a:noFill/>
          <a:ln w="38160">
            <a:solidFill>
              <a:srgbClr val="ffffff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rot="2655600">
            <a:off x="3504960" y="4952880"/>
            <a:ext cx="1066680" cy="533520"/>
          </a:xfrm>
          <a:custGeom>
            <a:avLst/>
            <a:gdLst/>
            <a:ahLst/>
            <a:rect l="l" t="t" r="r" b="b"/>
            <a:pathLst>
              <a:path w="1632" h="795">
                <a:moveTo>
                  <a:pt x="0" y="0"/>
                </a:moveTo>
                <a:lnTo>
                  <a:pt x="242" y="238"/>
                </a:lnTo>
                <a:lnTo>
                  <a:pt x="773" y="795"/>
                </a:lnTo>
                <a:lnTo>
                  <a:pt x="1632" y="1"/>
                </a:lnTo>
              </a:path>
            </a:pathLst>
          </a:custGeom>
          <a:noFill/>
          <a:ln w="38160">
            <a:solidFill>
              <a:srgbClr val="ffffff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rot="2655600">
            <a:off x="4800240" y="5943600"/>
            <a:ext cx="1066680" cy="533520"/>
          </a:xfrm>
          <a:custGeom>
            <a:avLst/>
            <a:gdLst/>
            <a:ahLst/>
            <a:rect l="l" t="t" r="r" b="b"/>
            <a:pathLst>
              <a:path w="1632" h="795">
                <a:moveTo>
                  <a:pt x="0" y="0"/>
                </a:moveTo>
                <a:lnTo>
                  <a:pt x="242" y="238"/>
                </a:lnTo>
                <a:lnTo>
                  <a:pt x="773" y="795"/>
                </a:lnTo>
                <a:lnTo>
                  <a:pt x="1632" y="1"/>
                </a:lnTo>
              </a:path>
            </a:pathLst>
          </a:custGeom>
          <a:noFill/>
          <a:ln w="38160">
            <a:solidFill>
              <a:srgbClr val="ffffff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265560" y="2293920"/>
            <a:ext cx="5192640" cy="4106880"/>
          </a:xfrm>
          <a:custGeom>
            <a:avLst/>
            <a:gdLst/>
            <a:ahLst/>
            <a:rect l="l" t="t" r="r" b="b"/>
            <a:pathLst>
              <a:path w="3282" h="2395">
                <a:moveTo>
                  <a:pt x="2647" y="2395"/>
                </a:moveTo>
                <a:lnTo>
                  <a:pt x="3282" y="2395"/>
                </a:lnTo>
                <a:lnTo>
                  <a:pt x="3273" y="0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ffffff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7.  Conquest of the Land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-597240">
              <a:spcBef>
                <a:spcPts val="799"/>
              </a:spcBef>
              <a:buClr>
                <a:srgbClr val="ffffcc"/>
              </a:buClr>
              <a:buSzPct val="7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eriod includes crossing Jordan until the death of Joshu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7240" indent="-597240"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srael invades the land of Canaa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7240" indent="-597240"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ericho defeated and destroy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7240" indent="-597240"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attle after battle, Israel gains the lan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7240" indent="-597240"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and divided among the trib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7240" indent="-597240"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wo of the three promises fulfill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343880" indent="-44784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NATION and the LAND promis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8. The Judges (15)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276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thni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hu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hamga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bora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ide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bimelec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l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ai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"/>
          <p:cNvSpPr/>
          <p:nvPr/>
        </p:nvSpPr>
        <p:spPr>
          <a:xfrm>
            <a:off x="5105520" y="1981080"/>
            <a:ext cx="327636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ephtha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bz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l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bd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ams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l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amu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8. The Judges (15)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0000"/>
              <a:buFont typeface="Times New Roman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eriod lasted 400+ yea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0000"/>
              <a:buFont typeface="Times New Roman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amuel last judge when people asked for a k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0000"/>
              <a:buFont typeface="Times New Roman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tinuous cycle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eople would turn to idol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nemy would oppress the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y would rep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od would send a deliverer (judge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n, they would have pea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ahoma"/>
              </a:rPr>
              <a:t>1. Before the flood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enerations of Adam (Christ linage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371600" indent="-4572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t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371600" indent="-4572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n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371600" indent="-4572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Kenan (Caina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371600" indent="-4572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ahalal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371600" indent="-4572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Jar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371600" indent="-4572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noch (Went to heaven without dying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371600" indent="-4572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ethudelah – Lived 969 yea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371600" indent="-4572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amec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371600" indent="-4572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oa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ahoma"/>
              </a:rPr>
              <a:t>2. Flood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nkind becomes very wick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od warns Noah to prepare for the floo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ah built an large ar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lood:  in ark for 1 year and 10 day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ight souls saved along with the anima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ahoma"/>
              </a:rPr>
              <a:t>2. Flood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400" y="18284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960840" indent="-51732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od’s covenant with Noa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330200" indent="-44316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e fruitful and multipl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330200" indent="-44316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ominion over the cre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330200" indent="-44316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eat added as foo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330200" indent="-44316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apital punishment start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330200" indent="-44316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ohibition against eating bloo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69956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(Blood associated with the life of the creature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330200" indent="-44316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t rainbow in the cloud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60840" indent="-51732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ah lived 350 years after fl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60840" indent="-51732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ived to the age of 950 (life spans dropped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" name=""/>
          <p:cNvGrpSpPr/>
          <p:nvPr/>
        </p:nvGrpSpPr>
        <p:grpSpPr>
          <a:xfrm>
            <a:off x="0" y="257040"/>
            <a:ext cx="9067680" cy="6364440"/>
            <a:chOff x="0" y="257040"/>
            <a:chExt cx="9067680" cy="6364440"/>
          </a:xfrm>
        </p:grpSpPr>
        <p:sp>
          <p:nvSpPr>
            <p:cNvPr id="120" name=""/>
            <p:cNvSpPr/>
            <p:nvPr/>
          </p:nvSpPr>
          <p:spPr>
            <a:xfrm>
              <a:off x="1181160" y="609480"/>
              <a:ext cx="7715160" cy="11430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aeaea"/>
                  </a:solidFill>
                  <a:latin typeface="Times New Roman"/>
                </a:rPr>
                <a:t>Click to add title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157400" y="1981080"/>
              <a:ext cx="7791480" cy="411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buClr>
                  <a:srgbClr val="eaeaea"/>
                </a:buClr>
                <a:buSzPct val="75000"/>
                <a:buFont typeface="Monotype Sort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Click to add text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22" name="" descr=""/>
            <p:cNvPicPr/>
            <p:nvPr/>
          </p:nvPicPr>
          <p:blipFill>
            <a:blip r:embed="rId1"/>
            <a:stretch/>
          </p:blipFill>
          <p:spPr>
            <a:xfrm>
              <a:off x="0" y="257040"/>
              <a:ext cx="9067680" cy="636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"/>
            <p:cNvSpPr/>
            <p:nvPr/>
          </p:nvSpPr>
          <p:spPr>
            <a:xfrm>
              <a:off x="595080" y="4253040"/>
              <a:ext cx="5154120" cy="75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ffff"/>
                  </a:solidFill>
                  <a:latin typeface="Arial"/>
                </a:rPr>
                <a:t>Mediterranean Sea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13480" y="5638680"/>
              <a:ext cx="17571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Arial"/>
                </a:rPr>
                <a:t>Cyprus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814760" y="1631880"/>
              <a:ext cx="2679120" cy="100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Arial"/>
                </a:rPr>
                <a:t>Turkey</a:t>
              </a: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8540640" y="1301760"/>
              <a:ext cx="444600" cy="444600"/>
            </a:xfrm>
            <a:prstGeom prst="star5">
              <a:avLst/>
            </a:prstGeom>
            <a:solidFill>
              <a:srgbClr val="fc012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843960" y="914400"/>
              <a:ext cx="1551600" cy="118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 u="sng">
                  <a:solidFill>
                    <a:srgbClr val="fafd00"/>
                  </a:solidFill>
                  <a:uFillTx/>
                  <a:latin typeface="Arial"/>
                </a:rPr>
                <a:t>Mount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 u="sng">
                  <a:solidFill>
                    <a:srgbClr val="fafd00"/>
                  </a:solidFill>
                  <a:uFillTx/>
                  <a:latin typeface="Arial"/>
                </a:rPr>
                <a:t>Ararat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150320" y="6157800"/>
              <a:ext cx="17967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NASA Photo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7960" y="352440"/>
              <a:ext cx="17985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©  EBibleTeacher.com 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flipH="1" rot="16200000">
              <a:off x="5796360" y="5873760"/>
              <a:ext cx="825480" cy="368280"/>
            </a:xfrm>
            <a:prstGeom prst="rightArrow">
              <a:avLst>
                <a:gd name="adj1" fmla="val 50000"/>
                <a:gd name="adj2" fmla="val 112082"/>
              </a:avLst>
            </a:prstGeom>
            <a:solidFill>
              <a:srgbClr val="fafd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385680" y="5486400"/>
              <a:ext cx="137628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Arial"/>
                </a:rPr>
                <a:t>Israel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807732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ahoma"/>
              </a:rPr>
              <a:t>3. The Scattering of the Peopl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ah’s descendants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3716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Japheth, Ham, Shem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eople moved into the valley of Mesopotamia; the land of Shina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eople together with one languag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uilt to themselves a city and a Tower of Bab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od confounded their languag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eople scattered across “the face of the earth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807732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ahoma"/>
              </a:rPr>
              <a:t>3. The Scattering of the Peopl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1404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enerations of Noah (linage of Christ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371600" indent="-4572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he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371600" indent="-4572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rphaxa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371600" indent="-4572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hela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371600" indent="-4572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b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371600" indent="-4572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eleg (people scattered in this generatio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371600" indent="-4572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u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371600" indent="-4572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aho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371600" indent="-4572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era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371600" indent="-4572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braha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ahoma"/>
              </a:rPr>
              <a:t>4.  The Patriarch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braha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saa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acob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371600" indent="-457200"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osep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9T02:37:07Z</dcterms:created>
  <dc:creator>Frank D Vines</dc:creator>
  <dc:description/>
  <dc:language>en-US</dc:language>
  <cp:lastModifiedBy>Frank D Vines</cp:lastModifiedBy>
  <dcterms:modified xsi:type="dcterms:W3CDTF">2008-10-04T22:37:45Z</dcterms:modified>
  <cp:revision>24</cp:revision>
  <dc:subject/>
  <dc:title>In the Days of the Judges</dc:title>
</cp:coreProperties>
</file>